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2C0-E4E8-4AD7-B499-0C000A52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34C-9A4C-4816-A286-E403E1BD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97F-A3FE-4CC5-80A1-77D15FA3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5B3-AFFE-4D8A-9526-F126F767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7C3-93E3-46FB-8BC1-B9B1DBC6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182-B965-4A2F-9ADD-22001431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3C6-5B4F-450A-8A6B-1563D6FB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A5E-ED14-4054-BD3F-CE5D36B7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239-3441-4070-925E-2A944411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8BF-B6C9-41E6-B845-69DBB33A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E0C-31EE-448F-BB58-BEDBA00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959-7E5D-4659-8891-37B89200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6E6C-7D54-4933-9FB7-A8B947F5D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TUDY DESIG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248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049560"/>
            <a:ext cx="6248160" cy="19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3911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2808360"/>
            <a:ext cx="67057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922480"/>
            <a:ext cx="64771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543800" cy="166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19320" y="2801880"/>
            <a:ext cx="67053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1028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2732040"/>
            <a:ext cx="6477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934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15:50:29Z</dcterms:modified>
  <cp:revision>94</cp:revision>
  <dc:subject/>
  <dc:title>The Art in the State of the Art</dc:title>
</cp:coreProperties>
</file>